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EB6A-17CD-4467-81A2-1AE54F66A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DE1E-17EC-4172-843C-6F5A7D56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25E9-B8C7-4881-9749-B58B3E7D9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D535-4928-4BC9-8DEC-2F0902F79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B4CB-E07F-4BD5-8AA4-C606EAB2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4E7D-7EC2-4A93-A1CC-4F44BB8E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D67E-10B5-4782-8743-2CF4AB74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B6D0-64F3-4208-9758-EDD808D4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4F79-6658-4B90-8AF6-7358AEF3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BBF2-5FFF-4A0D-912C-22ADDD77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E287-3997-4753-9BC3-08E33EE8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9F7E-437B-4DBF-81B2-963CAF03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F75C-C468-4B41-9328-2BE3E6114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5400000">
            <a:off x="216648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rot="5400000">
            <a:off x="251892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5400000">
            <a:off x="287136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66cc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5400000">
            <a:off x="3224160" y="292428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357588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392832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5400000">
            <a:off x="428076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5400000">
            <a:off x="1990080" y="32335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006666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2342520" y="32335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0066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2694960" y="32335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5400000">
            <a:off x="3047400" y="32335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5400000">
            <a:off x="3395160" y="32288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3747600" y="32288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5400000">
            <a:off x="4100040" y="32288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5400000">
            <a:off x="4452480" y="32288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181440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216684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51928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287172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3224160" y="3533760"/>
            <a:ext cx="409320" cy="352080"/>
          </a:xfrm>
          <a:prstGeom prst="hexagon">
            <a:avLst>
              <a:gd name="adj" fmla="val 29064"/>
              <a:gd name="vf" fmla="val 115470"/>
            </a:avLst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5400000">
            <a:off x="357624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5400000">
            <a:off x="392868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428112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4628880" y="35384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1638000" y="38433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5400000">
            <a:off x="1990440" y="38433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5400000">
            <a:off x="2342880" y="38433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ffcc"/>
          </a:solidFill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2695320" y="38433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3047760" y="38433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33cc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3395160" y="38383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3747600" y="38383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5400000">
            <a:off x="4100040" y="38383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4452480" y="38383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5400000">
            <a:off x="4804920" y="38383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146160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181404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cc66"/>
          </a:soli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216648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ff99"/>
          </a:soli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5400000">
            <a:off x="251892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ffcc"/>
          </a:solidFill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5400000">
            <a:off x="287136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5400000">
            <a:off x="3224160" y="414360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357588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5400000">
            <a:off x="392832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99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428076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4628520" y="41479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4980960" y="41479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9900ff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128556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5400000">
            <a:off x="163800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199044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234288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66ff99"/>
          </a:solidFill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269532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99ffcc"/>
          </a:soli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5400000">
            <a:off x="304776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339552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374796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10040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45284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66ff"/>
          </a:solidFill>
          <a:ln w="93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80528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515772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9900cc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110916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33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146160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181404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216648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ff66"/>
          </a:soli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251892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287136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3224160" y="475308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357588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392832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428076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66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4628880" y="47577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4981320" y="47577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5333760" y="47577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128520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336600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163764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99008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5400000">
            <a:off x="234252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99ff66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5400000">
            <a:off x="269496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304740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5400000">
            <a:off x="339516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cccc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5400000">
            <a:off x="374760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5400000">
            <a:off x="410004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66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445248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480492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515736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146196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3333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181440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669900"/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216684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99ff33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251928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ff66"/>
          </a:solidFill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287172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3224160" y="5362560"/>
            <a:ext cx="409320" cy="352080"/>
          </a:xfrm>
          <a:prstGeom prst="hexagon">
            <a:avLst>
              <a:gd name="adj" fmla="val 29064"/>
              <a:gd name="vf" fmla="val 115470"/>
            </a:avLst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357624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9999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392868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428112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33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4628880" y="53672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3399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4981320" y="53672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1638000" y="56721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666633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5400000">
            <a:off x="1990440" y="56721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2342880" y="56721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ff33"/>
          </a:soli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2695320" y="56721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3047760" y="56721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3395160" y="56671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9966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3747600" y="56671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4100040" y="56671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5400000">
            <a:off x="4452480" y="56671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d60093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5400000">
            <a:off x="4804920" y="56671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3366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5400000">
            <a:off x="181404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216648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400000">
            <a:off x="251892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5400000">
            <a:off x="287136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5400000">
            <a:off x="3224160" y="597240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5400000">
            <a:off x="357588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5400000">
            <a:off x="392832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428076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c0066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4628520" y="59767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660033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1990440" y="62816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5400000">
            <a:off x="2342880" y="62816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9900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2695320" y="62816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3047760" y="62816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3395520" y="62769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5400000">
            <a:off x="3747960" y="62769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5400000">
            <a:off x="4100400" y="62769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5400000">
            <a:off x="4452840" y="62769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990033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5400000">
            <a:off x="216648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5400000">
            <a:off x="251892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6600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5400000">
            <a:off x="287136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5400000">
            <a:off x="3224160" y="658188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357588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5400000">
            <a:off x="392832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5400000">
            <a:off x="428076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a50021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5400000">
            <a:off x="1990440" y="71960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2342880" y="71960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5400000">
            <a:off x="2695320" y="71960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5400000">
            <a:off x="3047760" y="71960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5400000">
            <a:off x="3395520" y="71913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5f5f5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3747960" y="71913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3333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5400000">
            <a:off x="4100400" y="71913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1c1c1c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5400000">
            <a:off x="4452840" y="71913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080808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216648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5400000">
            <a:off x="251892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5400000">
            <a:off x="287136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3224160" y="749628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777777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357588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5400000">
            <a:off x="392832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5400000">
            <a:off x="428076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111111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5400000">
            <a:off x="1081080" y="7162560"/>
            <a:ext cx="819000" cy="704880"/>
          </a:xfrm>
          <a:prstGeom prst="hexagon">
            <a:avLst>
              <a:gd name="adj" fmla="val 29047"/>
              <a:gd name="vf" fmla="val 11547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400000">
            <a:off x="4962240" y="7157880"/>
            <a:ext cx="809640" cy="704880"/>
          </a:xfrm>
          <a:prstGeom prst="hexagon">
            <a:avLst>
              <a:gd name="adj" fmla="val 28716"/>
              <a:gd name="vf" fmla="val 1154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37160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GB Color Re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t this page to use for reference when designing files for prin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5T13:02:39Z</dcterms:created>
  <dc:creator/>
  <dc:description/>
  <dc:language>en-US</dc:language>
  <cp:lastModifiedBy>Electronics For Imaging, Inc.</cp:lastModifiedBy>
  <dcterms:modified xsi:type="dcterms:W3CDTF">2002-04-04T22:28:25Z</dcterms:modified>
  <cp:revision>3</cp:revision>
  <dc:subject/>
  <dc:title>RGB Color Reference</dc:title>
</cp:coreProperties>
</file>