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46C2-05E8-4704-87E9-B6125540D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D8B0-0350-4831-B9A3-4E5917644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7C78-2C4C-431F-A957-03DBBBA2D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4E25-1B7D-404A-B87B-1AAF92D92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8E2C-61A5-4660-BBEB-1B1645651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A830-3665-4698-BE40-A91A6A54F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DA20-DC94-45B1-845D-B0962C847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EFC2-4734-4DC4-804C-6C7846761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A7FC-3506-4D75-89CD-45D93EEFB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8293-32E7-4078-B163-D62B4985C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B759-B2AF-44CA-BDD9-C5C3A2AB3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49B8-9687-41C6-B5E0-EE301EF73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6E9BD-F2CE-4E56-90E1-37D47E829A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5400000">
            <a:off x="2166480" y="29239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 rot="5400000">
            <a:off x="2518920" y="29239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5400000">
            <a:off x="2871360" y="29239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3366cc"/>
          </a:solidFill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5400000">
            <a:off x="3224160" y="2924280"/>
            <a:ext cx="409680" cy="352080"/>
          </a:xfrm>
          <a:prstGeom prst="hexagon">
            <a:avLst>
              <a:gd name="adj" fmla="val 29090"/>
              <a:gd name="vf" fmla="val 115470"/>
            </a:avLst>
          </a:prstGeom>
          <a:solidFill>
            <a:srgbClr val="0033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rot="5400000">
            <a:off x="3575880" y="29239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400000">
            <a:off x="3928320" y="29239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0000cc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5400000">
            <a:off x="4280760" y="29239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5400000">
            <a:off x="1990080" y="32335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006666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5400000">
            <a:off x="2342520" y="32335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00669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5400000">
            <a:off x="2694960" y="32335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5400000">
            <a:off x="3047400" y="32335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0066cc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5400000">
            <a:off x="3395160" y="32288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5400000">
            <a:off x="3747600" y="32288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5400000">
            <a:off x="4100040" y="32288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3333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5400000">
            <a:off x="4452480" y="32288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1814400" y="35337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008080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5400000">
            <a:off x="2166840" y="35337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519280" y="35337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33cccc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5400000">
            <a:off x="2871720" y="35337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3224160" y="3533760"/>
            <a:ext cx="409320" cy="352080"/>
          </a:xfrm>
          <a:prstGeom prst="hexagon">
            <a:avLst>
              <a:gd name="adj" fmla="val 29064"/>
              <a:gd name="vf" fmla="val 115470"/>
            </a:avLst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5400000">
            <a:off x="3576240" y="35337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0066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5400000">
            <a:off x="3928680" y="35337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5400000">
            <a:off x="4281120" y="35337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5400000">
            <a:off x="4628880" y="35384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6666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5400000">
            <a:off x="1638000" y="38433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339966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5400000">
            <a:off x="1990440" y="38433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rot="5400000">
            <a:off x="2342880" y="38433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00ffcc"/>
          </a:solidFill>
          <a:ln w="936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rot="5400000">
            <a:off x="2695320" y="38433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5400000">
            <a:off x="3047760" y="38433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33ccff"/>
          </a:solidFill>
          <a:ln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5400000">
            <a:off x="3395160" y="38383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rot="5400000">
            <a:off x="3747600" y="38383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6699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rot="5400000">
            <a:off x="4100040" y="38383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6666ff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5400000">
            <a:off x="4452480" y="38383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5400000">
            <a:off x="4804920" y="38383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6600cc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5400000">
            <a:off x="1461600" y="41432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339933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5400000">
            <a:off x="1814040" y="41432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00cc66"/>
          </a:solidFill>
          <a:ln w="93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rot="5400000">
            <a:off x="2166480" y="41432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00ff99"/>
          </a:solidFill>
          <a:ln w="93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5400000">
            <a:off x="2518920" y="41432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66ffcc"/>
          </a:solidFill>
          <a:ln w="936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rot="5400000">
            <a:off x="2871360" y="41432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66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5400000">
            <a:off x="3224160" y="4143600"/>
            <a:ext cx="409680" cy="352080"/>
          </a:xfrm>
          <a:prstGeom prst="hexagon">
            <a:avLst>
              <a:gd name="adj" fmla="val 29090"/>
              <a:gd name="vf" fmla="val 115470"/>
            </a:avLst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5400000">
            <a:off x="3575880" y="41432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5400000">
            <a:off x="3928320" y="41432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9999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5400000">
            <a:off x="4280760" y="41432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9966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5400000">
            <a:off x="4628520" y="41479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9933ff"/>
          </a:solidFill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5400000">
            <a:off x="4980960" y="41479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9900ff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1285560" y="44528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5400000">
            <a:off x="1638000" y="44528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00cc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5400000">
            <a:off x="1990440" y="44528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5400000">
            <a:off x="2342880" y="44528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66ff99"/>
          </a:solidFill>
          <a:ln w="936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5400000">
            <a:off x="2695320" y="44528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99ffcc"/>
          </a:solidFill>
          <a:ln w="9360">
            <a:solidFill>
              <a:srgbClr val="99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5400000">
            <a:off x="3047760" y="44528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5400000">
            <a:off x="3395520" y="44481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5400000">
            <a:off x="3747960" y="44481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100400" y="44481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452840" y="44481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cc66ff"/>
          </a:solidFill>
          <a:ln w="936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805280" y="44481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5400000">
            <a:off x="5157720" y="44481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9900cc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5400000">
            <a:off x="1109160" y="47527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0033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5400000">
            <a:off x="1461600" y="47527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5400000">
            <a:off x="1814040" y="47527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33cc33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5400000">
            <a:off x="2166480" y="47527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66ff66"/>
          </a:solidFill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5400000">
            <a:off x="2518920" y="47527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99ff99"/>
          </a:solidFill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2871360" y="47527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ccffcc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5400000">
            <a:off x="3224160" y="4753080"/>
            <a:ext cx="409680" cy="352080"/>
          </a:xfrm>
          <a:prstGeom prst="hexagon">
            <a:avLst>
              <a:gd name="adj" fmla="val 29090"/>
              <a:gd name="vf" fmla="val 11547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5400000">
            <a:off x="3575880" y="47527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ccff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3928320" y="47527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4280760" y="47527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66ff"/>
          </a:soli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5400000">
            <a:off x="4628880" y="47577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5400000">
            <a:off x="4981320" y="47577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cc00cc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5400000">
            <a:off x="5333760" y="47577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1285200" y="50623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336600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5400000">
            <a:off x="1637640" y="50623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400000">
            <a:off x="1990080" y="50623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66ff33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5400000">
            <a:off x="2342520" y="50623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99ff66"/>
          </a:solidFill>
          <a:ln w="93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5400000">
            <a:off x="2694960" y="50623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5400000">
            <a:off x="3047400" y="50623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5400000">
            <a:off x="3395160" y="50576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cccc"/>
          </a:solidFill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5400000">
            <a:off x="3747600" y="50576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99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rot="5400000">
            <a:off x="4100040" y="50576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66cc"/>
          </a:soli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5400000">
            <a:off x="4452480" y="50576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4804920" y="50576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5400000">
            <a:off x="5157360" y="50576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5400000">
            <a:off x="1461960" y="53625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3333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5400000">
            <a:off x="1814400" y="53625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669900"/>
          </a:solidFill>
          <a:ln w="9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5400000">
            <a:off x="2166840" y="53625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99ff33"/>
          </a:soli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5400000">
            <a:off x="2519280" y="53625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ccff66"/>
          </a:solidFill>
          <a:ln w="93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5400000">
            <a:off x="2871720" y="53625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5400000">
            <a:off x="3224160" y="5362560"/>
            <a:ext cx="409320" cy="352080"/>
          </a:xfrm>
          <a:prstGeom prst="hexagon">
            <a:avLst>
              <a:gd name="adj" fmla="val 29064"/>
              <a:gd name="vf" fmla="val 115470"/>
            </a:avLst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5400000">
            <a:off x="3576240" y="53625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ff9999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5400000">
            <a:off x="3928680" y="53625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ff6699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5400000">
            <a:off x="4281120" y="53625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ff3399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5400000">
            <a:off x="4628880" y="53672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cc3399"/>
          </a:solidFill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5400000">
            <a:off x="4981320" y="53672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990099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5400000">
            <a:off x="1638000" y="56721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666633"/>
          </a:solidFill>
          <a:ln w="9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5400000">
            <a:off x="1990440" y="56721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5400000">
            <a:off x="2342880" y="56721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ccff33"/>
          </a:solidFill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5400000">
            <a:off x="2695320" y="56721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ffff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5400000">
            <a:off x="3047760" y="56721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ffcc66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5400000">
            <a:off x="3395160" y="56671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9966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3747600" y="56671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7c8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4100040" y="56671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5400000">
            <a:off x="4452480" y="56671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d60093"/>
          </a:solidFill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rot="5400000">
            <a:off x="4804920" y="56671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993366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5400000">
            <a:off x="1814040" y="59720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8080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5400000">
            <a:off x="2166480" y="59720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5400000">
            <a:off x="2518920" y="59720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5400000">
            <a:off x="2871360" y="59720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5400000">
            <a:off x="3224160" y="5972400"/>
            <a:ext cx="409680" cy="352080"/>
          </a:xfrm>
          <a:prstGeom prst="hexagon">
            <a:avLst>
              <a:gd name="adj" fmla="val 29090"/>
              <a:gd name="vf" fmla="val 115470"/>
            </a:avLst>
          </a:prstGeom>
          <a:solidFill>
            <a:srgbClr val="ff9933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5400000">
            <a:off x="3575880" y="59720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rot="5400000">
            <a:off x="3928320" y="59720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5400000">
            <a:off x="4280760" y="59720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cc0066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5400000">
            <a:off x="4628520" y="59767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660033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1990440" y="62816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996633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5400000">
            <a:off x="2342880" y="62816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cc9900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2695320" y="62816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5400000">
            <a:off x="3047760" y="62816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3395520" y="62769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5400000">
            <a:off x="3747960" y="62769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5400000">
            <a:off x="4100400" y="62769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5400000">
            <a:off x="4452840" y="62769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990033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5400000">
            <a:off x="2166480" y="65815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663300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5400000">
            <a:off x="2518920" y="65815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996600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5400000">
            <a:off x="2871360" y="65815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5400000">
            <a:off x="3224160" y="6581880"/>
            <a:ext cx="409680" cy="352080"/>
          </a:xfrm>
          <a:prstGeom prst="hexagon">
            <a:avLst>
              <a:gd name="adj" fmla="val 29090"/>
              <a:gd name="vf" fmla="val 115470"/>
            </a:avLst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5400000">
            <a:off x="3575880" y="65815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rot="5400000">
            <a:off x="3928320" y="65815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5400000">
            <a:off x="4280760" y="65815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a50021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rot="5400000">
            <a:off x="1990440" y="71960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rot="5400000">
            <a:off x="2342880" y="71960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rot="5400000">
            <a:off x="2695320" y="71960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rot="5400000">
            <a:off x="3047760" y="71960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rot="5400000">
            <a:off x="3395520" y="71913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5f5f5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rot="5400000">
            <a:off x="3747960" y="71913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33333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rot="5400000">
            <a:off x="4100400" y="71913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1c1c1c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rot="5400000">
            <a:off x="4452840" y="71913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080808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rot="5400000">
            <a:off x="2166480" y="74959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5400000">
            <a:off x="2518920" y="74959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rot="5400000">
            <a:off x="2871360" y="74959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rot="5400000">
            <a:off x="3224160" y="7496280"/>
            <a:ext cx="409680" cy="352080"/>
          </a:xfrm>
          <a:prstGeom prst="hexagon">
            <a:avLst>
              <a:gd name="adj" fmla="val 29090"/>
              <a:gd name="vf" fmla="val 115470"/>
            </a:avLst>
          </a:prstGeom>
          <a:solidFill>
            <a:srgbClr val="777777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rot="5400000">
            <a:off x="3575880" y="74959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4d4d4d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rot="5400000">
            <a:off x="3928320" y="74959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rot="5400000">
            <a:off x="4280760" y="74959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111111"/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5400000">
            <a:off x="1081080" y="7162560"/>
            <a:ext cx="819000" cy="704880"/>
          </a:xfrm>
          <a:prstGeom prst="hexagon">
            <a:avLst>
              <a:gd name="adj" fmla="val 29047"/>
              <a:gd name="vf" fmla="val 11547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400000">
            <a:off x="4962240" y="7157880"/>
            <a:ext cx="809640" cy="704880"/>
          </a:xfrm>
          <a:prstGeom prst="hexagon">
            <a:avLst>
              <a:gd name="adj" fmla="val 28716"/>
              <a:gd name="vf" fmla="val 11547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1371600"/>
            <a:ext cx="5410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GB Color Re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nt this page to use for reference when designing files for prin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05T13:02:39Z</dcterms:created>
  <dc:creator/>
  <dc:description/>
  <dc:language>en-US</dc:language>
  <cp:lastModifiedBy>Electronics For Imaging, Inc.</cp:lastModifiedBy>
  <dcterms:modified xsi:type="dcterms:W3CDTF">2002-04-04T22:28:25Z</dcterms:modified>
  <cp:revision>3</cp:revision>
  <dc:subject/>
  <dc:title>RGB Color Reference</dc:title>
</cp:coreProperties>
</file>