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2DC-549D-429B-95A3-E47576A7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D7C-D0CD-42F3-B88B-39B6FB1F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E32-F115-436C-ACD9-B6786030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DAD-7584-4356-AF62-49788646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C55-87FC-4D00-92AA-10C8E962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1D4-F97D-4BD8-AE41-4506B756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C53-5AE9-4140-932C-B63D5221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E8F-3443-468F-A50B-353CD4A2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CBF-DB8B-4369-A69D-FE9EF1D6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414-CD1C-4210-8EAB-D887ECA1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7CE-A465-459D-A44E-CDA6D69D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F54-4ECF-4C3C-A3CC-0876C0B1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E886-5333-4CE3-AB74-4ED4BBD01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21664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25189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713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224160" y="2924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5758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9283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2807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99008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4252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69496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304740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9516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374760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10004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45248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81440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668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5192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28717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224160" y="35337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762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9286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11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628880" y="35384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63800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199044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234288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269532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04776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339516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4760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10004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45248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0492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146160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81404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1664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5189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8713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3224160" y="41436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5758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9283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2807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62852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98096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2855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163800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99044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34288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ff99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69532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0477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3955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74796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10040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45284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80528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1577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1091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46160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81404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1664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25189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8713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224160" y="47530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758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9283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2807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62888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98132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33376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2852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63764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99008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34252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69496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0474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3951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74760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10004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5248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0492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1573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46196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81440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668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5192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8717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224160" y="53625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5762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9286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2811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62888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33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98132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63800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199044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34288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69532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04776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39516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74760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10004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45248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480492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81404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1664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25189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713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3224160" y="59724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35758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39283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2807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628520" y="59767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99044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34288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69532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04776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39552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374796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10040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45284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21664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5189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28713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224160" y="65818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5758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9283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42807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99044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34288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269532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04776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39552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74796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410040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445284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1664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25189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8713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224160" y="7496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5758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9283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2807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111111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1081080" y="7162560"/>
            <a:ext cx="819000" cy="704880"/>
          </a:xfrm>
          <a:prstGeom prst="hexagon">
            <a:avLst>
              <a:gd name="adj" fmla="val 29047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962240" y="7157880"/>
            <a:ext cx="809640" cy="704880"/>
          </a:xfrm>
          <a:prstGeom prst="hexagon">
            <a:avLst>
              <a:gd name="adj" fmla="val 28716"/>
              <a:gd name="vf" fmla="val 1154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716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GB Color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this page to use for reference when designing files for pri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3:02:39Z</dcterms:created>
  <dc:creator/>
  <dc:description/>
  <dc:language>en-US</dc:language>
  <cp:lastModifiedBy>Electronics For Imaging, Inc.</cp:lastModifiedBy>
  <dcterms:modified xsi:type="dcterms:W3CDTF">2002-04-04T22:28:25Z</dcterms:modified>
  <cp:revision>3</cp:revision>
  <dc:subject/>
  <dc:title>RGB Color Reference</dc:title>
</cp:coreProperties>
</file>